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1046-E58C-41A7-8B81-3B060DB07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Quest was developed by Annette Lamb (http://eduscapes.com) and is based on a template from the The WebQuest Page (http://webques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emplate to create a PowerPoint-based WebQuest. Keep in mind that this IS NOT a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it uses PowerPoint as a tool for building a self-instructional learning environment fo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WebQuest development, use the following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Tap: WebQuests - http://eduscapes.com/tap/topic4.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editions - http://eduscapes.com/sessions/tra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ish to explore the WebQuest Design Patterns for help in designing an effectiv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designpatterns/all.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dapting an existing WebQuest. For help,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adap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change the buttons at the bottom of the page, you must do this on the Mast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View menu, select Master and Mast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on the button and choose a different color from the paint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on the button to see the I bar and change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change the ACTION on a button, single click on the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Slide Show menu, select Action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Hyperlink to…, select Slide and pick the slide you wish to link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can also be used to link to external documents such as Microsoft Word documents or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YPER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graphic or text you wish to make “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Insert menu and select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Be sure to include h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link to other types of files such as Microsoft Word and In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will need to upload these when you upload your PowerPoint present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Your introduction goes here. Provide a catchy introduction that will motivate, set  the stage, and gain the attention of your learners. It may  also provide some background information. Consider a quote, statistic, scenario, or problem. Create a motivating 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TASK, 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Provide a clear, concise,  active statement of the activity. The task should be something doable and interesting. For example, it could be a  series of questions, summary to be created, problem to be  solved, position to be debated, or creative work. It should  require thinking and do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Use the </a:t>
            </a:r>
            <a:r>
              <a:rPr b="0" i="1" sz="1200" spc="-1" strike="noStrike">
                <a:solidFill>
                  <a:srgbClr val="0000ee"/>
                </a:solidFill>
                <a:latin typeface="Arial"/>
              </a:rPr>
              <a:t>Taxomony  of Tasks</a:t>
            </a:r>
            <a:r>
              <a:rPr b="0" i="1" sz="1200" spc="-1" strike="noStrike">
                <a:solidFill>
                  <a:srgbClr val="000000"/>
                </a:solidFill>
                <a:latin typeface="Arial"/>
              </a:rPr>
              <a:t> for  id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ebquest.sdsu.edu/taskonomy.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Create a couple sentences stating the t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hat process will students follow to complete the ta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ill you provid e them with a list of activities, step-by-step instructions, or a time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Create a step-by-step  description of what you expect students to do during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You may wish to add additional pages. You may also wish to establish roles and include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hat resources will  students need to complete the ta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Select specific, appropriate resources such as web documents, experts  available via Internet, searchable net databases, books  and other documents, and real obje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Create a list of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hy reinvent the wheel? See if you can locate a pathfinder that contains good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42explore - http://42explor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Links to Subject Guides/ Thematic Resources - </a:t>
            </a:r>
            <a:r>
              <a:rPr b="0" lang="en-US" sz="1200" spc="-1" strike="noStrike">
                <a:solidFill>
                  <a:srgbClr val="000000"/>
                </a:solidFill>
                <a:latin typeface="Times New Roman"/>
              </a:rPr>
              <a:t>http://www.eduscapes.com/earth/theme1.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YPER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graphic or text you wish to make “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Insert menu and select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Be sure to include h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link to other types of files such as Microsoft Word and In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will need to upload these when you upload your PowerPoint present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ADVICE, GUIDELINES, ASSISTANCE,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Use the following guidelines for completing your proj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Do you have any other advice for students? Do they need to know how to organize  informat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ill you give them guiding questions, directions to complete, checklists, timelines, concept  maps, cause-effect diagrams, or action plan guidelin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Students need help in processing information. Use the following resource to help you develop effective stuednt guides. Keep in mind that these can be Word documents that are attached to your pro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projects.edtech.sandi.net/staffdev/tpss99/processguides/index.htm</a:t>
            </a:r>
            <a:endParaRPr b="0" lang="en-US" sz="12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AND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How will students be evalu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ill you provide rubrics checklists and other evaluation too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Brainstorm advice that might be helpful for students in completing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Consider using a rubric for evaluation. For help in creating a rubric, go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rubrics/weblesson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reat rubric maker, go to http://rubistar.4teachers.or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How will the project co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 </a:t>
            </a:r>
            <a:r>
              <a:rPr b="0" i="1" lang="en-US" sz="1200" spc="-1" strike="noStrike">
                <a:solidFill>
                  <a:srgbClr val="000000"/>
                </a:solidFill>
                <a:latin typeface="Palatino"/>
              </a:rPr>
              <a:t>Will you remind learners about what they've  learned or encourage learners to extend the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Describe an interesting culminating activity that allows  students to reflect on the experience and share their skills  and knowledge with 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ER INFORMATION</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reduce the font size or add additional pages for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nsider creating a link to a Word or PDF file containing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ormation does a teacher need to be able to use this in his/her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learners (i.e., grade level, interests, development level, reading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standards and describe how they are addressed in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process the teacher will follow to create an effective learn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resources that might be useful to teachers beyond those in the studen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aluation process and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culminating experience that will bring the lesson to an exciting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ll references used to create the WebQuest including any materials adapted from other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152280" y="13712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52280" y="38390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5228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4256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1522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1150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778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522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1150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778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152280" y="1371240"/>
            <a:ext cx="876312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15228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256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30492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4256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15228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4256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52280" y="38390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a:hlinkClick r:id="rId2" action="ppaction://hlinksldjump"/>
          </p:cNvPr>
          <p:cNvSpPr/>
          <p:nvPr/>
        </p:nvSpPr>
        <p:spPr>
          <a:xfrm>
            <a:off x="76320" y="6095880"/>
            <a:ext cx="1295280" cy="685800"/>
          </a:xfrm>
          <a:custGeom>
            <a:avLst/>
            <a:gdLst>
              <a:gd name="textAreaLeft" fmla="*/ 0 w 1295280"/>
              <a:gd name="textAreaRight" fmla="*/ 1295640 w 1295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Times New Roman"/>
            </a:endParaRPr>
          </a:p>
        </p:txBody>
      </p:sp>
      <p:sp>
        <p:nvSpPr>
          <p:cNvPr id="3" name="">
            <a:hlinkClick r:id="rId3" action="ppaction://hlinksldjump"/>
          </p:cNvPr>
          <p:cNvSpPr/>
          <p:nvPr/>
        </p:nvSpPr>
        <p:spPr>
          <a:xfrm>
            <a:off x="1143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 name="">
            <a:hlinkClick r:id="rId4" action="ppaction://hlinksldjump"/>
          </p:cNvPr>
          <p:cNvSpPr/>
          <p:nvPr/>
        </p:nvSpPr>
        <p:spPr>
          <a:xfrm>
            <a:off x="2286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5" name="">
            <a:hlinkClick r:id="rId5" action="ppaction://hlinksldjump"/>
          </p:cNvPr>
          <p:cNvSpPr/>
          <p:nvPr/>
        </p:nvSpPr>
        <p:spPr>
          <a:xfrm>
            <a:off x="3429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a:t>
            </a:r>
            <a:endParaRPr b="0" lang="en-US" sz="1600" spc="-1" strike="noStrike">
              <a:solidFill>
                <a:srgbClr val="000000"/>
              </a:solidFill>
              <a:latin typeface="Times New Roman"/>
            </a:endParaRPr>
          </a:p>
        </p:txBody>
      </p:sp>
      <p:sp>
        <p:nvSpPr>
          <p:cNvPr id="6" name=""/>
          <p:cNvSpPr/>
          <p:nvPr/>
        </p:nvSpPr>
        <p:spPr>
          <a:xfrm>
            <a:off x="4572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ce</a:t>
            </a:r>
            <a:endParaRPr b="0" lang="en-US" sz="1600" spc="-1" strike="noStrike">
              <a:solidFill>
                <a:srgbClr val="000000"/>
              </a:solidFill>
              <a:latin typeface="Times New Roman"/>
            </a:endParaRPr>
          </a:p>
        </p:txBody>
      </p:sp>
      <p:sp>
        <p:nvSpPr>
          <p:cNvPr id="7" name=""/>
          <p:cNvSpPr/>
          <p:nvPr/>
        </p:nvSpPr>
        <p:spPr>
          <a:xfrm>
            <a:off x="5715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a:t>
            </a:r>
            <a:endParaRPr b="0" lang="en-US" sz="1600" spc="-1" strike="noStrike">
              <a:solidFill>
                <a:srgbClr val="000000"/>
              </a:solidFill>
              <a:latin typeface="Times New Roman"/>
            </a:endParaRPr>
          </a:p>
        </p:txBody>
      </p:sp>
      <p:sp>
        <p:nvSpPr>
          <p:cNvPr id="8" name=""/>
          <p:cNvSpPr/>
          <p:nvPr/>
        </p:nvSpPr>
        <p:spPr>
          <a:xfrm>
            <a:off x="6858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t>
            </a:r>
            <a:endParaRPr b="0" lang="en-US" sz="1600" spc="-1" strike="noStrike">
              <a:solidFill>
                <a:srgbClr val="000000"/>
              </a:solidFill>
              <a:latin typeface="Times New Roman"/>
            </a:endParaRPr>
          </a:p>
        </p:txBody>
      </p:sp>
      <p:sp>
        <p:nvSpPr>
          <p:cNvPr id="9" name="">
            <a:hlinkClick r:id="" action="ppaction://hlinkshowjump?jump=previousslide"/>
          </p:cNvPr>
          <p:cNvSpPr/>
          <p:nvPr/>
        </p:nvSpPr>
        <p:spPr>
          <a:xfrm>
            <a:off x="8229600" y="6095880"/>
            <a:ext cx="304920" cy="304920"/>
          </a:xfrm>
          <a:prstGeom prst="left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229600" y="6400800"/>
            <a:ext cx="762120" cy="380880"/>
          </a:xfrm>
          <a:prstGeom prst="flowChartDecision">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 name="">
            <a:hlinkClick r:id="" action="ppaction://hlinkshowjump?jump=nextslide"/>
          </p:cNvPr>
          <p:cNvSpPr/>
          <p:nvPr/>
        </p:nvSpPr>
        <p:spPr>
          <a:xfrm flipH="1">
            <a:off x="8686080" y="6095880"/>
            <a:ext cx="304920" cy="304920"/>
          </a:xfrm>
          <a:prstGeom prst="left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Quest Template</a:t>
            </a:r>
            <a:endParaRPr b="1" lang="en-US" sz="36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 My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rt</a:t>
            </a:r>
            <a:endParaRPr b="1" lang="en-US" sz="3600" spc="-1" strike="noStrike">
              <a:solidFill>
                <a:srgbClr val="000000"/>
              </a:solidFill>
              <a:latin typeface="Arial"/>
            </a:endParaRPr>
          </a:p>
        </p:txBody>
      </p:sp>
      <p:sp>
        <p:nvSpPr>
          <p:cNvPr id="58"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a:t>
            </a:r>
            <a:endParaRPr b="1" lang="en-US" sz="3600" spc="-1" strike="noStrike">
              <a:solidFill>
                <a:srgbClr val="000000"/>
              </a:solidFill>
              <a:latin typeface="Arial"/>
            </a:endParaRPr>
          </a:p>
        </p:txBody>
      </p:sp>
      <p:sp>
        <p:nvSpPr>
          <p:cNvPr id="60"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a:t>
            </a:r>
            <a:endParaRPr b="1" lang="en-US" sz="3600" spc="-1" strike="noStrike">
              <a:solidFill>
                <a:srgbClr val="000000"/>
              </a:solidFill>
              <a:latin typeface="Arial"/>
            </a:endParaRPr>
          </a:p>
        </p:txBody>
      </p:sp>
      <p:sp>
        <p:nvSpPr>
          <p:cNvPr id="62"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s</a:t>
            </a:r>
            <a:endParaRPr b="1" lang="en-US" sz="3600" spc="-1" strike="noStrike">
              <a:solidFill>
                <a:srgbClr val="000000"/>
              </a:solidFill>
              <a:latin typeface="Arial"/>
            </a:endParaRPr>
          </a:p>
        </p:txBody>
      </p:sp>
      <p:sp>
        <p:nvSpPr>
          <p:cNvPr id="64"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ice</a:t>
            </a:r>
            <a:endParaRPr b="1" lang="en-US" sz="3600" spc="-1" strike="noStrike">
              <a:solidFill>
                <a:srgbClr val="000000"/>
              </a:solidFill>
              <a:latin typeface="Arial"/>
            </a:endParaRPr>
          </a:p>
        </p:txBody>
      </p:sp>
      <p:sp>
        <p:nvSpPr>
          <p:cNvPr id="66"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a:t>
            </a:r>
            <a:endParaRPr b="1" lang="en-US" sz="3600" spc="-1" strike="noStrike">
              <a:solidFill>
                <a:srgbClr val="000000"/>
              </a:solidFill>
              <a:latin typeface="Arial"/>
            </a:endParaRPr>
          </a:p>
        </p:txBody>
      </p:sp>
      <p:sp>
        <p:nvSpPr>
          <p:cNvPr id="68"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1" lang="en-US" sz="3600" spc="-1" strike="noStrike">
              <a:solidFill>
                <a:srgbClr val="000000"/>
              </a:solidFill>
              <a:latin typeface="Arial"/>
            </a:endParaRPr>
          </a:p>
        </p:txBody>
      </p:sp>
      <p:sp>
        <p:nvSpPr>
          <p:cNvPr id="70"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cher Information</a:t>
            </a:r>
            <a:endParaRPr b="1" lang="en-US" sz="3600" spc="-1" strike="noStrike">
              <a:solidFill>
                <a:srgbClr val="000000"/>
              </a:solidFill>
              <a:latin typeface="Arial"/>
            </a:endParaRPr>
          </a:p>
        </p:txBody>
      </p:sp>
      <p:sp>
        <p:nvSpPr>
          <p:cNvPr id="72"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2:00:05Z</dcterms:created>
  <dc:creator>Annette Lamb</dc:creator>
  <dc:description/>
  <dc:language>en-US</dc:language>
  <cp:lastModifiedBy>Annette Lamb</cp:lastModifiedBy>
  <dcterms:modified xsi:type="dcterms:W3CDTF">2004-07-09T13:45:44Z</dcterms:modified>
  <cp:revision>11</cp:revision>
  <dc:subject/>
  <dc:title>PowerQuest Template</dc:title>
</cp:coreProperties>
</file>